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35CD-D114-4396-8879-C24EE7CCD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C63B-1D31-41FC-8E7D-F7943999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5481-FFB0-4902-811B-E2F9949E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2A6D-DF33-45E3-AD8C-D377E5E6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7FFE-B900-44EE-B980-C27CEA80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8D32-A36A-47B5-9A43-5F2B8B67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A4F5-9D49-4083-9CD8-C64752C4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D880-87E3-4F71-AD14-58C81830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AE0F-D78D-4292-963C-CE16F06E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E726-B283-4178-A874-9E122714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B7E2-A775-406A-8FC0-7D2ACEB2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C6E6-6A73-42E5-93A0-8FC9A683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F753-5917-4B5D-B8A3-6C4A09F7F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502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15328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465120"/>
            <a:ext cx="80010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452520"/>
            <a:ext cx="91440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5:43:24Z</dcterms:created>
  <dc:creator>Patrick J. Mooney</dc:creator>
  <dc:description/>
  <dc:language>en-US</dc:language>
  <cp:lastModifiedBy>Patrick J. Mooney</cp:lastModifiedBy>
  <dcterms:modified xsi:type="dcterms:W3CDTF">2011-02-15T15:49:13Z</dcterms:modified>
  <cp:revision>1</cp:revision>
  <dc:subject/>
  <dc:title>Slide 1</dc:title>
</cp:coreProperties>
</file>